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2.png" ContentType="image/png"/>
  <Override PartName="/ppt/media/image21.png" ContentType="image/png"/>
  <Override PartName="/ppt/media/image28.jpeg" ContentType="image/jpeg"/>
  <Override PartName="/ppt/media/image18.png" ContentType="image/png"/>
  <Override PartName="/ppt/media/image6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24.png" ContentType="image/png"/>
  <Override PartName="/ppt/media/image27.jpeg" ContentType="image/jpeg"/>
  <Override PartName="/ppt/media/image33.jpeg" ContentType="image/jpeg"/>
  <Override PartName="/ppt/media/image10.png" ContentType="image/png"/>
  <Override PartName="/ppt/media/image35.jpeg" ContentType="image/jpeg"/>
  <Override PartName="/ppt/media/image29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31.jpeg" ContentType="image/jpeg"/>
  <Override PartName="/ppt/media/image2.png" ContentType="image/png"/>
  <Override PartName="/ppt/media/image32.jpeg" ContentType="image/jpeg"/>
  <Override PartName="/ppt/media/image5.jpeg" ContentType="image/jpeg"/>
  <Override PartName="/ppt/media/image39.png" ContentType="image/png"/>
  <Override PartName="/ppt/media/image9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34.wmf" ContentType="image/x-wmf"/>
  <Override PartName="/ppt/media/image12.png" ContentType="image/png"/>
  <Override PartName="/ppt/media/image20.jpeg" ContentType="image/jpeg"/>
  <Override PartName="/ppt/media/image36.png" ContentType="image/png"/>
  <Override PartName="/ppt/media/image37.png" ContentType="image/png"/>
  <Override PartName="/ppt/media/image7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38.png" ContentType="image/png"/>
  <Override PartName="/ppt/media/image4.png" ContentType="image/png"/>
  <Override PartName="/ppt/media/image1.png" ContentType="image/pn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  <p:sldId id="268" r:id="rId37"/>
    <p:sldId id="269" r:id="rId38"/>
    <p:sldId id="270" r:id="rId39"/>
    <p:sldId id="271" r:id="rId40"/>
    <p:sldId id="27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slide" Target="slides/slide13.xml"/><Relationship Id="rId38" Type="http://schemas.openxmlformats.org/officeDocument/2006/relationships/slide" Target="slides/slide14.xml"/><Relationship Id="rId39" Type="http://schemas.openxmlformats.org/officeDocument/2006/relationships/slide" Target="slides/slide15.xml"/><Relationship Id="rId40" Type="http://schemas.openxmlformats.org/officeDocument/2006/relationships/slide" Target="slides/slide16.xml"/><Relationship Id="rId41" Type="http://schemas.openxmlformats.org/officeDocument/2006/relationships/slide" Target="slides/slide17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7A5B-0A78-49C6-8258-FA74749B3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8129B-E6E6-4B21-B6A3-7CFD7D1FD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3BAF7-D030-47B5-8C69-99564531E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F42AC-A3A9-4908-BC6E-5F9F8970D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2C346-4716-468A-B4FD-18BAC801B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B2C98-14EF-4DF5-887A-B12D38C3C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3D070-0D1E-45A7-86FE-8DAD3ED05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9C169-87FD-4A0F-81DB-0B8FB98E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B762-EF42-4B37-A666-7F0A85B72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ED878-5E3F-4811-842E-1FCD9274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36EE3-AE98-473D-931B-6254BF13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CEFB2-CA3B-4940-94E1-FF37A5D40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3D8AB-65BA-44DE-B6B2-B05E3E034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EF47B-00D0-4BC3-9AA4-4E7169B72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B6614-F678-4598-994D-ADE9508DB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C8FFC-6C82-4693-AA58-DDD7D8C76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933E6-2641-4626-9479-896BC811C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26C93-AA5C-4AEE-B720-DF7A2A8EF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D6F75-61ED-4017-A1A7-D18BEDEDE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E5C0-F608-473D-9406-FA7D562FC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2304F-FA20-449F-B024-5F588F2CD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57117-BA12-4677-91D4-6297E29B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5FD72-873C-4F37-B3B7-E46CD9E8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A3519-9EE6-4ED8-A9D3-5DF5B9CD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B1269-48F6-4FA5-AE43-3F5B25D18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B7FE0-F962-4FEE-8579-1419CC64F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B68F9-5786-4981-9786-1B173C82F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6A0EF-C25E-41F0-880A-70EC6FB3A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E594E-35DA-44D4-BF35-178FBC4EC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4DBBF-06A3-4573-86EB-DE49F322D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641D-5C8D-4F87-830B-455FAAD39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AD2E5-F4DF-4687-9966-52386AAEB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8849A-7FF1-4FE8-8986-5FD50FEDC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3E7EE-DF2E-4D0E-A937-7009048CC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02C41-8DCE-47B8-93ED-368B7214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1E3F2-1181-497A-B937-1886AACC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EC26F-DECC-423D-90C7-E9146091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4503C-D93E-48AC-8255-25EA75E6F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44B12-3E7B-40FA-A270-AE82439B9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AE7D1-A7FB-400C-80D4-70218343C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24022-B23A-4F11-BB65-BD59FEFA8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2986-4535-4033-AFC2-451C340A1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A04B2-85C2-4CFB-BA8A-21E31E339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98FE1-5AFB-47B8-8A9E-A3AE084ED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658F6-E861-4DB9-BAE3-781B54D7D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4632D-40CA-4A10-ACDD-46520ED58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23A13-6572-48DA-8652-C040653A8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241E0-756A-4F06-84BD-56FF34DA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8A317-EDA5-42A5-A082-38211AE2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4EA7D-5055-4BA0-810E-CA609E2E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D3FAB-EBE5-45F8-8D66-A37BAF4A0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A6D14-0128-4193-B96F-5182A882F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3D2B-0384-4213-A7AA-95829FEE9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28A27-5171-46E3-8DB4-C206279D6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F7425-D645-4586-B103-C28DCF0EC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5FB26-D000-431D-9F2A-510F98A34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F8ADD-BB49-4731-93F1-F0319FAFE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DD96D-6DBE-495F-B9D6-0D394CD61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D1FE5-FF1F-4EE6-8DE2-3CD7084B0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5F7FB-1B2E-4FA7-870F-86B3919F1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4A32A-AB7C-4341-A6CA-5649DE7D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AF511-2800-48C1-9862-D63CAA17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5D431-39E9-44CB-8E1D-957A926B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B656-7256-4FE0-A460-7115DA95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B5B6E-008E-4FB5-8761-93C4A96E1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A5AB3-90D0-4B99-AB15-7D0461F29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1C797-3ACD-4493-AF36-84AF7DCBD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B13DD9-33EF-4551-9086-67360274E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F211D3-925A-4024-BA63-7B9B3E915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358200-1C72-416E-A0EE-D3A29B931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752D3B-8BD1-4DBF-B0F6-252E3F741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2C66EE-11DE-47C7-89AB-89EFEC782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A6F17-F27B-4BA7-9370-6FF5564CF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67E756-3A9B-44BD-B392-5E42C9E2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6207-4E7E-445F-A3E6-9BFFB378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6A8D3-A93F-4EFE-966D-54767662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A9A779-3F77-4EBD-AB8F-32058151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C0D54-57AB-4DD8-A60E-87A50205A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1A2F8B-4914-4096-AF2E-6735D30C4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59736-FA05-4DDE-8961-71A7ECCCD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8B051E-DD6D-46F7-985C-93D415A17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7A475D-48FE-44F0-BD8C-A1DC82841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73DDCD-AA8C-465F-9B32-6AEBCE43E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E0C057-1489-446D-AA30-ECA064537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497C50-C8AE-479B-A0B8-9CFD9883A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54B5-B5BD-4FB8-A287-D9B29794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8DE14A-FB20-4309-95F1-1602962E8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57B84E-8545-4C2F-B47C-4F795C6F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A1E4BE-65DC-43D4-900D-6E84C7FC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94A4EA-1C67-4CCB-95B4-A4155346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2930E7-EF58-48FD-85E5-828EDB0E5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A0395F-6E94-4B12-98E6-97F1673B4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E5DAAF-335A-4B3E-9342-32E6E982A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F3725E-5056-47FF-A8E8-504E42D57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F879B0-B320-44F5-AB6B-9BDC5FCE9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3D5F7C-77A0-4D93-B7DA-094CF85EA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5480-5C45-4D3D-9C14-559C17E50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2D1376-4C8C-4581-B57F-0422785D7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ABAA11-B134-47B3-BDA4-5F89E27D6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9BC438-F6B1-4C01-ACC7-D58A96146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D8975D-C8AC-4608-9CD3-BA158D1F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410DE3-9395-45F8-B7F2-15F6286C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D06DC9-A596-4BD4-8BCB-9E94077B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D83D39-C6F8-4047-93F9-FD5D8CCAF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E579BF-8836-464F-AA50-300B15750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FFDAFC-152A-45AE-BAB4-F138AB2DC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0FAA65-7F28-486B-9F6B-05A7E04BC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AE4F-51E1-4362-B89F-ED7A50170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9816AF-29C0-42C1-8794-3A89DC871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C2E3A7-8E32-4392-81BE-AA2DB65BB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D5E0EF-CD5A-4B34-AEEC-68B3E661C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DCA589-BBD3-4BE9-B451-9280CE309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D6B7EB-2E8C-4551-9468-871922296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790E46-D527-48FC-B787-5F67FCF1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474E6B-1627-4DEE-82AC-9052BB80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42F9FB-1994-41DB-B04F-D5FF4046A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6ECE2A-493D-415E-AC24-597514D7D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49656E-B8A1-4BFB-894E-54DC97911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7E18-3674-4A7E-A181-07EB421C7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2F4CF5-6066-42C4-BE43-179A9155C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D8AA74-D04F-425B-9519-A5FEB95B5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4C6483-0401-4D3B-ADC7-4990300CA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BC7997-36AA-4F21-8C02-6CF5300DF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5A4E85-83C2-4D96-9D99-DCFE78F12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699FB3-6AF0-48AA-9DCA-F4D7E415E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F67EEE-7D20-450B-852D-56DA8CA82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B02D36-AD65-4E96-A8CB-73A950D0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A1D6EE-F3B0-4B47-857A-1706D0C9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4D477E-BCB0-43C6-816A-446F9DF6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8F19C3-897C-420F-A732-4385B4FA5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E4493F-D617-4F9B-9ABC-AEB9DCFCE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36FA61-1EE4-42F9-9E81-7B8EF4DBF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1DE9E2-BCB7-48FF-ADA1-C10795F5E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157A21-2634-4621-ABEB-B8B211812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7880BC-F954-4047-8711-A8902CEA8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177D80-ED0D-4E8D-AA61-07A77EC7F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82F24A-2C4C-4EE9-9E26-01D5B7812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81DA89-7108-44BA-8E02-CB5E6ED75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BC7CAD-0B79-43FB-B8A6-16A8754D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219B94-E135-43BB-9536-4276CDB2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5B50E3-AE1C-4EFF-B0A1-C67CC7B0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3C2F99-B875-4422-BD42-0031485AB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EA3061-EEF2-4AF2-9759-DCA804187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211D22-F71C-43B4-8ACB-395A92878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"/>
          <p:cNvSpPr/>
          <p:nvPr/>
        </p:nvSpPr>
        <p:spPr>
          <a:xfrm>
            <a:off x="7892640" y="64900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5" descr="IITA_regular-sienna_no slogan 2"/>
          <p:cNvPicPr/>
          <p:nvPr/>
        </p:nvPicPr>
        <p:blipFill>
          <a:blip r:embed="rId2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  <p:pic>
        <p:nvPicPr>
          <p:cNvPr id="2" name="Picture 6" descr="IITA_regular-sienna_no slogan 2"/>
          <p:cNvPicPr/>
          <p:nvPr/>
        </p:nvPicPr>
        <p:blipFill>
          <a:blip r:embed="rId3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4"/>
          <p:cNvSpPr/>
          <p:nvPr/>
        </p:nvSpPr>
        <p:spPr>
          <a:xfrm>
            <a:off x="7892640" y="64900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5" descr="IITA_regular-sienna_no slogan 2"/>
          <p:cNvPicPr/>
          <p:nvPr/>
        </p:nvPicPr>
        <p:blipFill>
          <a:blip r:embed="rId2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6" descr="IITA_regular-sienna_no slogan 2"/>
          <p:cNvPicPr/>
          <p:nvPr/>
        </p:nvPicPr>
        <p:blipFill>
          <a:blip r:embed="rId3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4"/>
          <p:cNvSpPr/>
          <p:nvPr/>
        </p:nvSpPr>
        <p:spPr>
          <a:xfrm>
            <a:off x="7892640" y="64900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5" descr="IITA_regular-sienna_no slogan 2"/>
          <p:cNvPicPr/>
          <p:nvPr/>
        </p:nvPicPr>
        <p:blipFill>
          <a:blip r:embed="rId2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6" descr="IITA_regular-sienna_no slogan 2"/>
          <p:cNvPicPr/>
          <p:nvPr/>
        </p:nvPicPr>
        <p:blipFill>
          <a:blip r:embed="rId3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88637-45DF-430D-97DB-3F6D1013E5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E4E9B-036A-4F6C-8ADB-BD32834132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C4E77-4C47-4C9F-826E-25EE1EE3EC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72707-0016-48F4-AAC9-36D0A4B689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1EA26-C004-4EFC-894F-C152BE0B4A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22211-B7B0-4112-84A2-ACB78D8211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12621-94DD-4138-99E9-AE7B2EF811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56885-9009-4BCB-9805-503DAFE7DB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1E69F-8782-4DC2-81B6-CC6C821834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E68FD-5042-4804-A39F-7DCAA6FA56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215E2-C9B7-48B3-9C10-090B4CA7DA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4"/>
          <p:cNvSpPr/>
          <p:nvPr/>
        </p:nvSpPr>
        <p:spPr>
          <a:xfrm>
            <a:off x="7892640" y="64900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0" name="Picture 5" descr="IITA_regular-sienna_no slogan 2"/>
          <p:cNvPicPr/>
          <p:nvPr/>
        </p:nvPicPr>
        <p:blipFill>
          <a:blip r:embed="rId2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  <p:pic>
        <p:nvPicPr>
          <p:cNvPr id="881" name="Picture 6" descr="IITA_regular-sienna_no slogan 2"/>
          <p:cNvPicPr/>
          <p:nvPr/>
        </p:nvPicPr>
        <p:blipFill>
          <a:blip r:embed="rId3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  <p:sp>
        <p:nvSpPr>
          <p:cNvPr id="882" name="PlaceHolder 1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DD522-1FBA-4E77-8952-51A404458F0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7892640" y="64900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IITA_regular-sienna_no slogan 2"/>
          <p:cNvPicPr/>
          <p:nvPr/>
        </p:nvPicPr>
        <p:blipFill>
          <a:blip r:embed="rId2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IITA_regular-sienna_no slogan 2"/>
          <p:cNvPicPr/>
          <p:nvPr/>
        </p:nvPicPr>
        <p:blipFill>
          <a:blip r:embed="rId3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7892640" y="64900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IITA_regular-sienna_no slogan 2"/>
          <p:cNvPicPr/>
          <p:nvPr/>
        </p:nvPicPr>
        <p:blipFill>
          <a:blip r:embed="rId2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IITA_regular-sienna_no slogan 2"/>
          <p:cNvPicPr/>
          <p:nvPr/>
        </p:nvPicPr>
        <p:blipFill>
          <a:blip r:embed="rId3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4"/>
          <p:cNvSpPr/>
          <p:nvPr/>
        </p:nvSpPr>
        <p:spPr>
          <a:xfrm>
            <a:off x="7892640" y="64900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IITA_regular-sienna_no slogan 2"/>
          <p:cNvPicPr/>
          <p:nvPr/>
        </p:nvPicPr>
        <p:blipFill>
          <a:blip r:embed="rId2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IITA_regular-sienna_no slogan 2"/>
          <p:cNvPicPr/>
          <p:nvPr/>
        </p:nvPicPr>
        <p:blipFill>
          <a:blip r:embed="rId3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4"/>
          <p:cNvSpPr/>
          <p:nvPr/>
        </p:nvSpPr>
        <p:spPr>
          <a:xfrm>
            <a:off x="7892640" y="64900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5" descr="IITA_regular-sienna_no slogan 2"/>
          <p:cNvPicPr/>
          <p:nvPr/>
        </p:nvPicPr>
        <p:blipFill>
          <a:blip r:embed="rId2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IITA_regular-sienna_no slogan 2"/>
          <p:cNvPicPr/>
          <p:nvPr/>
        </p:nvPicPr>
        <p:blipFill>
          <a:blip r:embed="rId3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4"/>
          <p:cNvSpPr/>
          <p:nvPr/>
        </p:nvSpPr>
        <p:spPr>
          <a:xfrm>
            <a:off x="7892640" y="64900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5" descr="IITA_regular-sienna_no slogan 2"/>
          <p:cNvPicPr/>
          <p:nvPr/>
        </p:nvPicPr>
        <p:blipFill>
          <a:blip r:embed="rId2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IITA_regular-sienna_no slogan 2"/>
          <p:cNvPicPr/>
          <p:nvPr/>
        </p:nvPicPr>
        <p:blipFill>
          <a:blip r:embed="rId3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4"/>
          <p:cNvSpPr/>
          <p:nvPr/>
        </p:nvSpPr>
        <p:spPr>
          <a:xfrm>
            <a:off x="7892640" y="64900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5" descr="IITA_regular-sienna_no slogan 2"/>
          <p:cNvPicPr/>
          <p:nvPr/>
        </p:nvPicPr>
        <p:blipFill>
          <a:blip r:embed="rId2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IITA_regular-sienna_no slogan 2"/>
          <p:cNvPicPr/>
          <p:nvPr/>
        </p:nvPicPr>
        <p:blipFill>
          <a:blip r:embed="rId3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4"/>
          <p:cNvSpPr/>
          <p:nvPr/>
        </p:nvSpPr>
        <p:spPr>
          <a:xfrm>
            <a:off x="7892640" y="64900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5" descr="IITA_regular-sienna_no slogan 2"/>
          <p:cNvPicPr/>
          <p:nvPr/>
        </p:nvPicPr>
        <p:blipFill>
          <a:blip r:embed="rId2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6" descr="IITA_regular-sienna_no slogan 2"/>
          <p:cNvPicPr/>
          <p:nvPr/>
        </p:nvPicPr>
        <p:blipFill>
          <a:blip r:embed="rId3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3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3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3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4.wmf"/><Relationship Id="rId3" Type="http://schemas.openxmlformats.org/officeDocument/2006/relationships/image" Target="../media/image35.jpe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9.png"/><Relationship Id="rId9" Type="http://schemas.openxmlformats.org/officeDocument/2006/relationships/image" Target="../media/image11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pic>
        <p:nvPicPr>
          <p:cNvPr id="922" name="Picture 11" descr="Zambia Agriculture Research Institute"/>
          <p:cNvPicPr/>
          <p:nvPr/>
        </p:nvPicPr>
        <p:blipFill>
          <a:blip r:embed="rId2"/>
          <a:stretch/>
        </p:blipFill>
        <p:spPr>
          <a:xfrm>
            <a:off x="0" y="2300400"/>
            <a:ext cx="1752480" cy="143352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2" descr=""/>
          <p:cNvPicPr/>
          <p:nvPr/>
        </p:nvPicPr>
        <p:blipFill>
          <a:blip r:embed="rId3"/>
          <a:stretch/>
        </p:blipFill>
        <p:spPr>
          <a:xfrm>
            <a:off x="0" y="5589720"/>
            <a:ext cx="1752480" cy="1268280"/>
          </a:xfrm>
          <a:prstGeom prst="rect">
            <a:avLst/>
          </a:prstGeom>
          <a:ln w="0">
            <a:noFill/>
          </a:ln>
        </p:spPr>
      </p:pic>
      <p:sp>
        <p:nvSpPr>
          <p:cNvPr id="924" name="TextBox 16"/>
          <p:cNvSpPr/>
          <p:nvPr/>
        </p:nvSpPr>
        <p:spPr>
          <a:xfrm>
            <a:off x="0" y="990720"/>
            <a:ext cx="9144000" cy="112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595959"/>
                </a:solidFill>
                <a:latin typeface="Tahoma"/>
                <a:ea typeface="Tahoma"/>
              </a:rPr>
              <a:t>Commercialising  aflasafe as a biocontrol for aflatoxi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5" name="Picture 2" descr=""/>
          <p:cNvPicPr/>
          <p:nvPr/>
        </p:nvPicPr>
        <p:blipFill>
          <a:blip r:embed="rId4"/>
          <a:stretch/>
        </p:blipFill>
        <p:spPr>
          <a:xfrm>
            <a:off x="2924280" y="2438280"/>
            <a:ext cx="3247920" cy="4343400"/>
          </a:xfrm>
          <a:prstGeom prst="rect">
            <a:avLst/>
          </a:prstGeom>
          <a:ln w="0">
            <a:noFill/>
          </a:ln>
        </p:spPr>
      </p:pic>
      <p:grpSp>
        <p:nvGrpSpPr>
          <p:cNvPr id="926" name="Group 7"/>
          <p:cNvGrpSpPr/>
          <p:nvPr/>
        </p:nvGrpSpPr>
        <p:grpSpPr>
          <a:xfrm>
            <a:off x="209520" y="4165560"/>
            <a:ext cx="1238400" cy="1244520"/>
            <a:chOff x="209520" y="4165560"/>
            <a:chExt cx="1238400" cy="1244520"/>
          </a:xfrm>
        </p:grpSpPr>
        <p:pic>
          <p:nvPicPr>
            <p:cNvPr id="927" name="Picture 3" descr="nisirlogo"/>
            <p:cNvPicPr/>
            <p:nvPr/>
          </p:nvPicPr>
          <p:blipFill>
            <a:blip r:embed="rId5"/>
            <a:stretch/>
          </p:blipFill>
          <p:spPr>
            <a:xfrm>
              <a:off x="405720" y="4364640"/>
              <a:ext cx="842040" cy="83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8" name="AutoShape 4"/>
            <p:cNvSpPr/>
            <p:nvPr/>
          </p:nvSpPr>
          <p:spPr>
            <a:xfrm>
              <a:off x="209520" y="4165560"/>
              <a:ext cx="1238400" cy="1244520"/>
            </a:xfrm>
            <a:custGeom>
              <a:avLst/>
              <a:gdLst>
                <a:gd name="textAreaLeft" fmla="*/ 181080 w 1238400"/>
                <a:gd name="textAreaRight" fmla="*/ 1057320 w 1238400"/>
                <a:gd name="textAreaTop" fmla="*/ 182160 h 1244520"/>
                <a:gd name="textAreaBottom" fmla="*/ 1062360 h 124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544" y="10800"/>
                  </a:moveTo>
                  <a:cubicBezTo>
                    <a:pt x="3544" y="14807"/>
                    <a:pt x="6793" y="18056"/>
                    <a:pt x="10800" y="18056"/>
                  </a:cubicBezTo>
                  <a:cubicBezTo>
                    <a:pt x="14807" y="18056"/>
                    <a:pt x="18056" y="14807"/>
                    <a:pt x="18056" y="10800"/>
                  </a:cubicBezTo>
                  <a:cubicBezTo>
                    <a:pt x="18056" y="6793"/>
                    <a:pt x="14807" y="3544"/>
                    <a:pt x="10800" y="3544"/>
                  </a:cubicBezTo>
                  <a:cubicBezTo>
                    <a:pt x="6793" y="3544"/>
                    <a:pt x="3544" y="6793"/>
                    <a:pt x="3544" y="10800"/>
                  </a:cubicBez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66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9" name="TextBox 16"/>
          <p:cNvSpPr/>
          <p:nvPr/>
        </p:nvSpPr>
        <p:spPr>
          <a:xfrm>
            <a:off x="2724120" y="0"/>
            <a:ext cx="6572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  <a:ea typeface="Tahoma"/>
              </a:rPr>
              <a:t>Stakeholders’ Meeting, 30</a:t>
            </a:r>
            <a:r>
              <a:rPr b="1" lang="en-GB" sz="1800" spc="-1" strike="noStrike" baseline="30000">
                <a:solidFill>
                  <a:srgbClr val="ffffff"/>
                </a:solidFill>
                <a:latin typeface="Tahoma"/>
                <a:ea typeface="Tahoma"/>
              </a:rPr>
              <a:t>th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  <a:ea typeface="Tahoma"/>
              </a:rPr>
              <a:t> September 2016, Lusa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Tahoma"/>
              </a:rPr>
              <a:t>Theme 4:  Current achievements &amp; g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AutoShape 2"/>
          <p:cNvSpPr/>
          <p:nvPr/>
        </p:nvSpPr>
        <p:spPr>
          <a:xfrm>
            <a:off x="155520" y="-1150920"/>
            <a:ext cx="6743880" cy="24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1" name="Picture 18" descr="Macintosh HD:Users:alys.yng:Dropbox:Research:Zambia:AA GNIAA - INGENEAS:Communication Tools:Logos - INGENAES:ingenaesLogos2.png"/>
          <p:cNvPicPr/>
          <p:nvPr/>
        </p:nvPicPr>
        <p:blipFill>
          <a:blip r:embed="rId7"/>
          <a:stretch/>
        </p:blipFill>
        <p:spPr>
          <a:xfrm>
            <a:off x="6899400" y="5948280"/>
            <a:ext cx="2122200" cy="7174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9" descr=""/>
          <p:cNvPicPr/>
          <p:nvPr/>
        </p:nvPicPr>
        <p:blipFill>
          <a:blip r:embed="rId8"/>
          <a:stretch/>
        </p:blipFill>
        <p:spPr>
          <a:xfrm>
            <a:off x="6781680" y="2438280"/>
            <a:ext cx="2239920" cy="79056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20" descr="Macintosh HD:Users:alys.yng:Desktop:Screen Shot 2016-05-01 at 5.46.06 AM.png"/>
          <p:cNvPicPr/>
          <p:nvPr/>
        </p:nvPicPr>
        <p:blipFill>
          <a:blip r:embed="rId9"/>
          <a:stretch/>
        </p:blipFill>
        <p:spPr>
          <a:xfrm>
            <a:off x="6899400" y="4363920"/>
            <a:ext cx="2122200" cy="5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1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666880" y="12240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urrent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Rectangle 9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Rectangle 1"/>
          <p:cNvSpPr/>
          <p:nvPr/>
        </p:nvSpPr>
        <p:spPr>
          <a:xfrm>
            <a:off x="0" y="838080"/>
            <a:ext cx="91440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3333ff"/>
                </a:solidFill>
                <a:latin typeface="Tahoma"/>
                <a:ea typeface="Tahoma"/>
              </a:rPr>
              <a:t>3. Aflasafe product registration: Dossier submitted to ZEM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5" name="Group 11"/>
          <p:cNvGrpSpPr/>
          <p:nvPr/>
        </p:nvGrpSpPr>
        <p:grpSpPr>
          <a:xfrm>
            <a:off x="95400" y="5743440"/>
            <a:ext cx="2641320" cy="962280"/>
            <a:chOff x="95400" y="5743440"/>
            <a:chExt cx="2641320" cy="962280"/>
          </a:xfrm>
        </p:grpSpPr>
        <p:sp>
          <p:nvSpPr>
            <p:cNvPr id="1006" name="Rounded Rectangle 12"/>
            <p:cNvSpPr/>
            <p:nvPr/>
          </p:nvSpPr>
          <p:spPr>
            <a:xfrm>
              <a:off x="95400" y="5743440"/>
              <a:ext cx="2641320" cy="9622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90000"/>
              </a:srgbClr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Rounded Rectangle 4"/>
            <p:cNvSpPr/>
            <p:nvPr/>
          </p:nvSpPr>
          <p:spPr>
            <a:xfrm>
              <a:off x="142920" y="5790960"/>
              <a:ext cx="2546280" cy="86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Re-submission of Dossier-</a:t>
              </a:r>
              <a:r>
                <a:rPr b="1" lang="en-GB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yet to be do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8" name="Group 14"/>
          <p:cNvGrpSpPr/>
          <p:nvPr/>
        </p:nvGrpSpPr>
        <p:grpSpPr>
          <a:xfrm>
            <a:off x="76320" y="4343400"/>
            <a:ext cx="2641320" cy="961920"/>
            <a:chOff x="76320" y="4343400"/>
            <a:chExt cx="2641320" cy="961920"/>
          </a:xfrm>
        </p:grpSpPr>
        <p:sp>
          <p:nvSpPr>
            <p:cNvPr id="1009" name="Rounded Rectangle 16"/>
            <p:cNvSpPr/>
            <p:nvPr/>
          </p:nvSpPr>
          <p:spPr>
            <a:xfrm>
              <a:off x="76320" y="4343400"/>
              <a:ext cx="2641320" cy="96192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90000"/>
              </a:srgbClr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Rounded Rectangle 4"/>
            <p:cNvSpPr/>
            <p:nvPr/>
          </p:nvSpPr>
          <p:spPr>
            <a:xfrm>
              <a:off x="123840" y="4390920"/>
              <a:ext cx="2546280" cy="86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Revision of Dossi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1" name="Group 19"/>
          <p:cNvGrpSpPr/>
          <p:nvPr/>
        </p:nvGrpSpPr>
        <p:grpSpPr>
          <a:xfrm>
            <a:off x="82440" y="1600200"/>
            <a:ext cx="2641680" cy="961920"/>
            <a:chOff x="82440" y="1600200"/>
            <a:chExt cx="2641680" cy="961920"/>
          </a:xfrm>
        </p:grpSpPr>
        <p:sp>
          <p:nvSpPr>
            <p:cNvPr id="1012" name="Rounded Rectangle 20"/>
            <p:cNvSpPr/>
            <p:nvPr/>
          </p:nvSpPr>
          <p:spPr>
            <a:xfrm>
              <a:off x="82440" y="1600200"/>
              <a:ext cx="2641680" cy="96192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90000"/>
              </a:srgbClr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Rounded Rectangle 4"/>
            <p:cNvSpPr/>
            <p:nvPr/>
          </p:nvSpPr>
          <p:spPr>
            <a:xfrm>
              <a:off x="129960" y="1647720"/>
              <a:ext cx="2546640" cy="86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ubmission of Application dossi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Group 22"/>
          <p:cNvGrpSpPr/>
          <p:nvPr/>
        </p:nvGrpSpPr>
        <p:grpSpPr>
          <a:xfrm>
            <a:off x="76320" y="2971800"/>
            <a:ext cx="2641320" cy="969840"/>
            <a:chOff x="76320" y="2971800"/>
            <a:chExt cx="2641320" cy="969840"/>
          </a:xfrm>
        </p:grpSpPr>
        <p:sp>
          <p:nvSpPr>
            <p:cNvPr id="1015" name="Rounded Rectangle 23"/>
            <p:cNvSpPr/>
            <p:nvPr/>
          </p:nvSpPr>
          <p:spPr>
            <a:xfrm>
              <a:off x="76320" y="2971800"/>
              <a:ext cx="2641320" cy="96984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90000"/>
              </a:srgbClr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Rounded Rectangle 4"/>
            <p:cNvSpPr/>
            <p:nvPr/>
          </p:nvSpPr>
          <p:spPr>
            <a:xfrm>
              <a:off x="146160" y="3019320"/>
              <a:ext cx="2501640" cy="87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000" rIns="99000" tIns="99000" bIns="9900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Dossier Review &amp; Feedback to Applica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7" name="Group 25" descr=""/>
          <p:cNvPicPr/>
          <p:nvPr/>
        </p:nvPicPr>
        <p:blipFill>
          <a:blip r:embed="rId2"/>
          <a:stretch/>
        </p:blipFill>
        <p:spPr>
          <a:xfrm>
            <a:off x="3236760" y="1584360"/>
            <a:ext cx="2670480" cy="946080"/>
          </a:xfrm>
          <a:prstGeom prst="rect">
            <a:avLst/>
          </a:prstGeom>
          <a:ln w="0">
            <a:noFill/>
          </a:ln>
        </p:spPr>
      </p:pic>
      <p:pic>
        <p:nvPicPr>
          <p:cNvPr id="1018" name="Group 28" descr=""/>
          <p:cNvPicPr/>
          <p:nvPr/>
        </p:nvPicPr>
        <p:blipFill>
          <a:blip r:embed="rId3"/>
          <a:stretch/>
        </p:blipFill>
        <p:spPr>
          <a:xfrm>
            <a:off x="3365640" y="3645000"/>
            <a:ext cx="2670120" cy="946080"/>
          </a:xfrm>
          <a:prstGeom prst="rect">
            <a:avLst/>
          </a:prstGeom>
          <a:ln w="0">
            <a:noFill/>
          </a:ln>
        </p:spPr>
      </p:pic>
      <p:pic>
        <p:nvPicPr>
          <p:cNvPr id="1019" name="Group 31" descr=""/>
          <p:cNvPicPr/>
          <p:nvPr/>
        </p:nvPicPr>
        <p:blipFill>
          <a:blip r:embed="rId4"/>
          <a:stretch/>
        </p:blipFill>
        <p:spPr>
          <a:xfrm>
            <a:off x="6188040" y="3645000"/>
            <a:ext cx="2664000" cy="946080"/>
          </a:xfrm>
          <a:prstGeom prst="rect">
            <a:avLst/>
          </a:prstGeom>
          <a:ln w="0">
            <a:noFill/>
          </a:ln>
        </p:spPr>
      </p:pic>
      <p:pic>
        <p:nvPicPr>
          <p:cNvPr id="1020" name="Group 34" descr=""/>
          <p:cNvPicPr/>
          <p:nvPr/>
        </p:nvPicPr>
        <p:blipFill>
          <a:blip r:embed="rId5"/>
          <a:stretch/>
        </p:blipFill>
        <p:spPr>
          <a:xfrm>
            <a:off x="4584600" y="5778360"/>
            <a:ext cx="2670120" cy="946440"/>
          </a:xfrm>
          <a:prstGeom prst="rect">
            <a:avLst/>
          </a:prstGeom>
          <a:ln w="0">
            <a:noFill/>
          </a:ln>
        </p:spPr>
      </p:pic>
      <p:pic>
        <p:nvPicPr>
          <p:cNvPr id="1021" name="Group 37" descr=""/>
          <p:cNvPicPr/>
          <p:nvPr/>
        </p:nvPicPr>
        <p:blipFill>
          <a:blip r:embed="rId6"/>
          <a:stretch/>
        </p:blipFill>
        <p:spPr>
          <a:xfrm>
            <a:off x="6315120" y="1633680"/>
            <a:ext cx="2663640" cy="944280"/>
          </a:xfrm>
          <a:prstGeom prst="rect">
            <a:avLst/>
          </a:prstGeom>
          <a:ln w="0">
            <a:noFill/>
          </a:ln>
        </p:spPr>
      </p:pic>
      <p:sp>
        <p:nvSpPr>
          <p:cNvPr id="1022" name="Striped Right Arrow 3"/>
          <p:cNvSpPr/>
          <p:nvPr/>
        </p:nvSpPr>
        <p:spPr>
          <a:xfrm>
            <a:off x="2895480" y="6059520"/>
            <a:ext cx="1600200" cy="380880"/>
          </a:xfrm>
          <a:custGeom>
            <a:avLst/>
            <a:gdLst/>
            <a:ahLst/>
            <a:rect l="l" t="t" r="r" b="b"/>
            <a:pathLst>
              <a:path w="1600200" h="381000">
                <a:moveTo>
                  <a:pt x="0" y="95250"/>
                </a:moveTo>
                <a:lnTo>
                  <a:pt x="11906" y="95250"/>
                </a:lnTo>
                <a:lnTo>
                  <a:pt x="11906" y="285750"/>
                </a:lnTo>
                <a:lnTo>
                  <a:pt x="0" y="285750"/>
                </a:lnTo>
                <a:lnTo>
                  <a:pt x="0" y="95250"/>
                </a:lnTo>
                <a:close/>
                <a:moveTo>
                  <a:pt x="23813" y="95250"/>
                </a:moveTo>
                <a:lnTo>
                  <a:pt x="47625" y="95250"/>
                </a:lnTo>
                <a:lnTo>
                  <a:pt x="47625" y="285750"/>
                </a:lnTo>
                <a:lnTo>
                  <a:pt x="23813" y="285750"/>
                </a:lnTo>
                <a:lnTo>
                  <a:pt x="23813" y="95250"/>
                </a:lnTo>
                <a:close/>
                <a:moveTo>
                  <a:pt x="59531" y="95250"/>
                </a:moveTo>
                <a:lnTo>
                  <a:pt x="1409700" y="95250"/>
                </a:lnTo>
                <a:lnTo>
                  <a:pt x="1409700" y="0"/>
                </a:lnTo>
                <a:lnTo>
                  <a:pt x="1600200" y="190500"/>
                </a:lnTo>
                <a:lnTo>
                  <a:pt x="1409700" y="381000"/>
                </a:lnTo>
                <a:lnTo>
                  <a:pt x="1409700" y="285750"/>
                </a:lnTo>
                <a:lnTo>
                  <a:pt x="59531" y="285750"/>
                </a:lnTo>
                <a:lnTo>
                  <a:pt x="59531" y="9525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fc4b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Striped Right Arrow 40"/>
          <p:cNvSpPr/>
          <p:nvPr/>
        </p:nvSpPr>
        <p:spPr>
          <a:xfrm rot="14026200">
            <a:off x="4408200" y="5111280"/>
            <a:ext cx="1370160" cy="160200"/>
          </a:xfrm>
          <a:custGeom>
            <a:avLst/>
            <a:gdLst/>
            <a:ahLst/>
            <a:rect l="l" t="t" r="r" b="b"/>
            <a:pathLst>
              <a:path w="1370012" h="160338">
                <a:moveTo>
                  <a:pt x="0" y="40085"/>
                </a:moveTo>
                <a:lnTo>
                  <a:pt x="5011" y="40085"/>
                </a:lnTo>
                <a:lnTo>
                  <a:pt x="5011" y="120254"/>
                </a:lnTo>
                <a:lnTo>
                  <a:pt x="0" y="120254"/>
                </a:lnTo>
                <a:lnTo>
                  <a:pt x="0" y="40085"/>
                </a:lnTo>
                <a:close/>
                <a:moveTo>
                  <a:pt x="10021" y="40085"/>
                </a:moveTo>
                <a:lnTo>
                  <a:pt x="20042" y="40085"/>
                </a:lnTo>
                <a:lnTo>
                  <a:pt x="20042" y="120254"/>
                </a:lnTo>
                <a:lnTo>
                  <a:pt x="10021" y="120254"/>
                </a:lnTo>
                <a:lnTo>
                  <a:pt x="10021" y="40085"/>
                </a:lnTo>
                <a:close/>
                <a:moveTo>
                  <a:pt x="25053" y="40085"/>
                </a:moveTo>
                <a:lnTo>
                  <a:pt x="1289843" y="40085"/>
                </a:lnTo>
                <a:lnTo>
                  <a:pt x="1289843" y="0"/>
                </a:lnTo>
                <a:lnTo>
                  <a:pt x="1370012" y="80169"/>
                </a:lnTo>
                <a:lnTo>
                  <a:pt x="1289843" y="160338"/>
                </a:lnTo>
                <a:lnTo>
                  <a:pt x="1289843" y="120254"/>
                </a:lnTo>
                <a:lnTo>
                  <a:pt x="25053" y="120254"/>
                </a:lnTo>
                <a:lnTo>
                  <a:pt x="25053" y="40085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fc4b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Striped Right Arrow 41"/>
          <p:cNvSpPr/>
          <p:nvPr/>
        </p:nvSpPr>
        <p:spPr>
          <a:xfrm rot="18195600">
            <a:off x="6334920" y="5108400"/>
            <a:ext cx="1368720" cy="158760"/>
          </a:xfrm>
          <a:custGeom>
            <a:avLst/>
            <a:gdLst/>
            <a:ahLst/>
            <a:rect l="l" t="t" r="r" b="b"/>
            <a:pathLst>
              <a:path w="1368425" h="158750">
                <a:moveTo>
                  <a:pt x="0" y="39688"/>
                </a:moveTo>
                <a:lnTo>
                  <a:pt x="4961" y="39688"/>
                </a:lnTo>
                <a:lnTo>
                  <a:pt x="4961" y="119063"/>
                </a:lnTo>
                <a:lnTo>
                  <a:pt x="0" y="119063"/>
                </a:lnTo>
                <a:lnTo>
                  <a:pt x="0" y="39688"/>
                </a:lnTo>
                <a:close/>
                <a:moveTo>
                  <a:pt x="9922" y="39688"/>
                </a:moveTo>
                <a:lnTo>
                  <a:pt x="19844" y="39688"/>
                </a:lnTo>
                <a:lnTo>
                  <a:pt x="19844" y="119063"/>
                </a:lnTo>
                <a:lnTo>
                  <a:pt x="9922" y="119063"/>
                </a:lnTo>
                <a:lnTo>
                  <a:pt x="9922" y="39688"/>
                </a:lnTo>
                <a:close/>
                <a:moveTo>
                  <a:pt x="24805" y="39688"/>
                </a:moveTo>
                <a:lnTo>
                  <a:pt x="1289050" y="39688"/>
                </a:lnTo>
                <a:lnTo>
                  <a:pt x="1289050" y="0"/>
                </a:lnTo>
                <a:lnTo>
                  <a:pt x="1368425" y="79375"/>
                </a:lnTo>
                <a:lnTo>
                  <a:pt x="1289050" y="158750"/>
                </a:lnTo>
                <a:lnTo>
                  <a:pt x="1289050" y="119063"/>
                </a:lnTo>
                <a:lnTo>
                  <a:pt x="24805" y="119063"/>
                </a:lnTo>
                <a:lnTo>
                  <a:pt x="24805" y="39688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fc4b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Striped Right Arrow 42"/>
          <p:cNvSpPr/>
          <p:nvPr/>
        </p:nvSpPr>
        <p:spPr>
          <a:xfrm rot="15835200">
            <a:off x="3625560" y="3024000"/>
            <a:ext cx="1055520" cy="118800"/>
          </a:xfrm>
          <a:custGeom>
            <a:avLst/>
            <a:gdLst/>
            <a:ahLst/>
            <a:rect l="l" t="t" r="r" b="b"/>
            <a:pathLst>
              <a:path w="1055688" h="119062">
                <a:moveTo>
                  <a:pt x="0" y="29766"/>
                </a:moveTo>
                <a:lnTo>
                  <a:pt x="3721" y="29766"/>
                </a:lnTo>
                <a:lnTo>
                  <a:pt x="3721" y="89297"/>
                </a:lnTo>
                <a:lnTo>
                  <a:pt x="0" y="89297"/>
                </a:lnTo>
                <a:lnTo>
                  <a:pt x="0" y="29766"/>
                </a:lnTo>
                <a:close/>
                <a:moveTo>
                  <a:pt x="7441" y="29766"/>
                </a:moveTo>
                <a:lnTo>
                  <a:pt x="14883" y="29766"/>
                </a:lnTo>
                <a:lnTo>
                  <a:pt x="14883" y="89297"/>
                </a:lnTo>
                <a:lnTo>
                  <a:pt x="7441" y="89297"/>
                </a:lnTo>
                <a:lnTo>
                  <a:pt x="7441" y="29766"/>
                </a:lnTo>
                <a:close/>
                <a:moveTo>
                  <a:pt x="18603" y="29766"/>
                </a:moveTo>
                <a:lnTo>
                  <a:pt x="996157" y="29766"/>
                </a:lnTo>
                <a:lnTo>
                  <a:pt x="996157" y="0"/>
                </a:lnTo>
                <a:lnTo>
                  <a:pt x="1055688" y="59531"/>
                </a:lnTo>
                <a:lnTo>
                  <a:pt x="996157" y="119062"/>
                </a:lnTo>
                <a:lnTo>
                  <a:pt x="996157" y="89297"/>
                </a:lnTo>
                <a:lnTo>
                  <a:pt x="18603" y="89297"/>
                </a:lnTo>
                <a:lnTo>
                  <a:pt x="18603" y="29766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fc4b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Striped Right Arrow 43"/>
          <p:cNvSpPr/>
          <p:nvPr/>
        </p:nvSpPr>
        <p:spPr>
          <a:xfrm flipV="1" rot="19268400">
            <a:off x="5421240" y="3068640"/>
            <a:ext cx="1577520" cy="104760"/>
          </a:xfrm>
          <a:custGeom>
            <a:avLst/>
            <a:gdLst/>
            <a:ahLst/>
            <a:rect l="l" t="t" r="r" b="b"/>
            <a:pathLst>
              <a:path w="1577975" h="104775">
                <a:moveTo>
                  <a:pt x="0" y="26194"/>
                </a:moveTo>
                <a:lnTo>
                  <a:pt x="3274" y="26194"/>
                </a:lnTo>
                <a:lnTo>
                  <a:pt x="3274" y="78581"/>
                </a:lnTo>
                <a:lnTo>
                  <a:pt x="0" y="78581"/>
                </a:lnTo>
                <a:lnTo>
                  <a:pt x="0" y="26194"/>
                </a:lnTo>
                <a:close/>
                <a:moveTo>
                  <a:pt x="6548" y="26194"/>
                </a:moveTo>
                <a:lnTo>
                  <a:pt x="13097" y="26194"/>
                </a:lnTo>
                <a:lnTo>
                  <a:pt x="13097" y="78581"/>
                </a:lnTo>
                <a:lnTo>
                  <a:pt x="6548" y="78581"/>
                </a:lnTo>
                <a:lnTo>
                  <a:pt x="6548" y="26194"/>
                </a:lnTo>
                <a:close/>
                <a:moveTo>
                  <a:pt x="16371" y="26194"/>
                </a:moveTo>
                <a:lnTo>
                  <a:pt x="1525588" y="26194"/>
                </a:lnTo>
                <a:lnTo>
                  <a:pt x="1525588" y="0"/>
                </a:lnTo>
                <a:lnTo>
                  <a:pt x="1577975" y="52388"/>
                </a:lnTo>
                <a:lnTo>
                  <a:pt x="1525588" y="104775"/>
                </a:lnTo>
                <a:lnTo>
                  <a:pt x="1525588" y="78581"/>
                </a:lnTo>
                <a:lnTo>
                  <a:pt x="16371" y="78581"/>
                </a:lnTo>
                <a:lnTo>
                  <a:pt x="16371" y="26194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fc4b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666880" y="12240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4. Current Achievements: BP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Rectangle 9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0" name=""/>
          <p:cNvGraphicFramePr/>
          <p:nvPr/>
        </p:nvGraphicFramePr>
        <p:xfrm>
          <a:off x="4632480" y="1006560"/>
          <a:ext cx="4511520" cy="1598400"/>
        </p:xfrm>
        <a:graphic>
          <a:graphicData uri="http://schemas.openxmlformats.org/drawingml/2006/table">
            <a:tbl>
              <a:tblPr/>
              <a:tblGrid>
                <a:gridCol w="4511520"/>
              </a:tblGrid>
              <a:tr h="469800">
                <a:tc>
                  <a:txBody>
                    <a:bodyPr lIns="73080" rIns="73080" tIns="137160" bIns="1371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NTRY POINT AFR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658800">
                <a:tc>
                  <a:txBody>
                    <a:bodyPr rIns="7308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USINESS PLAN FOR AFLASAFE COMMERCIALISATION IN ZAMB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469800">
                <a:tc>
                  <a:txBody>
                    <a:bodyPr lIns="73080" rIns="73080" tIns="137160" bIns="1371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rst Working Draft- JANUARY 2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31" name=""/>
          <p:cNvGraphicFramePr/>
          <p:nvPr/>
        </p:nvGraphicFramePr>
        <p:xfrm>
          <a:off x="42840" y="1295280"/>
          <a:ext cx="2190600" cy="5521320"/>
        </p:xfrm>
        <a:graphic>
          <a:graphicData uri="http://schemas.openxmlformats.org/drawingml/2006/table">
            <a:tbl>
              <a:tblPr/>
              <a:tblGrid>
                <a:gridCol w="2190600"/>
              </a:tblGrid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R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I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ZAR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GI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USAID-Zambi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WF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MAC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78768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astern Province Farmers Cooperatives union (EPFC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ZAMSEE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MES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ZAB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hare Africa Zambi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52524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gram Against Malnutrition (PAM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78768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Grain Traders Association of Zambia (GTAZ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FIT 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ZEM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32" name=""/>
          <p:cNvGraphicFramePr/>
          <p:nvPr/>
        </p:nvGraphicFramePr>
        <p:xfrm>
          <a:off x="2316240" y="3137040"/>
          <a:ext cx="2495520" cy="3644640"/>
        </p:xfrm>
        <a:graphic>
          <a:graphicData uri="http://schemas.openxmlformats.org/drawingml/2006/table">
            <a:tbl>
              <a:tblPr/>
              <a:tblGrid>
                <a:gridCol w="2495520"/>
              </a:tblGrid>
              <a:tr h="84132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mallholder Agri Business Promotion Programme (SAPP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112068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inistry of Agriculture, Department of Marketing and Agri-busin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56196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inistry of Agriculture, Chip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56052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Village headman &amp; Farmers in Chip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56016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Katete District Women’s Assoc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33" name=""/>
          <p:cNvGraphicFramePr/>
          <p:nvPr/>
        </p:nvGraphicFramePr>
        <p:xfrm>
          <a:off x="4876920" y="4191120"/>
          <a:ext cx="4267080" cy="2560680"/>
        </p:xfrm>
        <a:graphic>
          <a:graphicData uri="http://schemas.openxmlformats.org/drawingml/2006/table">
            <a:tbl>
              <a:tblPr/>
              <a:tblGrid>
                <a:gridCol w="4267080"/>
              </a:tblGrid>
              <a:tr h="3654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inistry of Agriculture, Petauk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36684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ize &amp; groundnut farmers in Petauk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3654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inistry of Agriculture, Nyimb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36648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ize &amp; groundnut farmers in Nyimb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3654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ize &amp; groundnut farmers in Kabw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36648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inistry of Agriculture, Chibomb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3654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ize &amp; groundnut farmers in Chibomb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</a:tbl>
          </a:graphicData>
        </a:graphic>
      </p:graphicFrame>
      <p:sp>
        <p:nvSpPr>
          <p:cNvPr id="1034" name="Rectangle 7"/>
          <p:cNvSpPr/>
          <p:nvPr/>
        </p:nvSpPr>
        <p:spPr>
          <a:xfrm>
            <a:off x="5369040" y="3359160"/>
            <a:ext cx="3698640" cy="505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Stakeholder consul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2666880" y="12240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4. Current Achievements: BP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Rectangle 9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Rectangle 15"/>
          <p:cNvSpPr/>
          <p:nvPr/>
        </p:nvSpPr>
        <p:spPr>
          <a:xfrm>
            <a:off x="4343400" y="853920"/>
            <a:ext cx="469584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Potential aflasafe manufactur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Share-Africa Zamb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ZAMSE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companies expressed need for seed money to jump start the manufacturing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530, 000$ for aflasafe pl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Rectangle 15"/>
          <p:cNvSpPr/>
          <p:nvPr/>
        </p:nvSpPr>
        <p:spPr>
          <a:xfrm>
            <a:off x="4295880" y="4302000"/>
            <a:ext cx="469584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Potential distribution channel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Lead firms: Organizations operating M/GN value chai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Seed &amp; input suppl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NGOs &amp; development partn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Rectangle 15"/>
          <p:cNvSpPr/>
          <p:nvPr/>
        </p:nvSpPr>
        <p:spPr>
          <a:xfrm>
            <a:off x="27000" y="1509840"/>
            <a:ext cx="4162320" cy="461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ff"/>
                </a:solidFill>
                <a:latin typeface="Tahoma"/>
                <a:ea typeface="Tahoma"/>
              </a:rPr>
              <a:t>Market &amp; dem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60% of farmers willing to pay for such a produ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Market: Local consumers, processors, Govt school feeding programs, regional trad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NGOs &amp; development partn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2666880" y="12240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4. Current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Rectangle 9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Rectangle 1"/>
          <p:cNvSpPr/>
          <p:nvPr/>
        </p:nvSpPr>
        <p:spPr>
          <a:xfrm>
            <a:off x="0" y="838080"/>
            <a:ext cx="91440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3333ff"/>
                </a:solidFill>
                <a:latin typeface="Tahoma"/>
                <a:ea typeface="Tahoma"/>
              </a:rPr>
              <a:t>5. Trade assessm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Rectangle 2"/>
          <p:cNvSpPr/>
          <p:nvPr/>
        </p:nvSpPr>
        <p:spPr>
          <a:xfrm>
            <a:off x="1066680" y="1703520"/>
            <a:ext cx="6782040" cy="5031720"/>
          </a:xfrm>
          <a:prstGeom prst="rect">
            <a:avLst/>
          </a:prstGeom>
          <a:noFill/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An Assessment Report of Trade Performance of Key Agricultural Value Chains in Zambia from 2013 to 2015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Prepared and submitted b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Gregory Chansa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April, 2016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PROFIT plus USAID Pro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Plot #18944 | Off Lubansheshi Road Olympia Park | Lusaka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Zamb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ZM1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6" name="Picture 15" descr=""/>
          <p:cNvPicPr/>
          <p:nvPr/>
        </p:nvPicPr>
        <p:blipFill>
          <a:blip r:embed="rId2"/>
          <a:stretch/>
        </p:blipFill>
        <p:spPr>
          <a:xfrm>
            <a:off x="7337520" y="990720"/>
            <a:ext cx="1806480" cy="63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2666880" y="12240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urrent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Rectangle 9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Rectangle 1"/>
          <p:cNvSpPr/>
          <p:nvPr/>
        </p:nvSpPr>
        <p:spPr>
          <a:xfrm>
            <a:off x="0" y="838080"/>
            <a:ext cx="91440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3333ff"/>
                </a:solidFill>
                <a:latin typeface="Tahoma"/>
                <a:ea typeface="Tahoma"/>
              </a:rPr>
              <a:t>6. Awareness raising &amp; Capacity build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1" name="Picture 44" descr=""/>
          <p:cNvPicPr/>
          <p:nvPr/>
        </p:nvPicPr>
        <p:blipFill>
          <a:blip r:embed="rId2"/>
          <a:stretch/>
        </p:blipFill>
        <p:spPr>
          <a:xfrm>
            <a:off x="76320" y="4648320"/>
            <a:ext cx="3759120" cy="21142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45" descr=""/>
          <p:cNvPicPr/>
          <p:nvPr/>
        </p:nvPicPr>
        <p:blipFill>
          <a:blip r:embed="rId3"/>
          <a:stretch/>
        </p:blipFill>
        <p:spPr>
          <a:xfrm>
            <a:off x="6553080" y="4686480"/>
            <a:ext cx="2514600" cy="207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3" name=""/>
          <p:cNvGraphicFramePr/>
          <p:nvPr/>
        </p:nvGraphicFramePr>
        <p:xfrm>
          <a:off x="76320" y="1600200"/>
          <a:ext cx="8915400" cy="2641680"/>
        </p:xfrm>
        <a:graphic>
          <a:graphicData uri="http://schemas.openxmlformats.org/drawingml/2006/table">
            <a:tbl>
              <a:tblPr/>
              <a:tblGrid>
                <a:gridCol w="1523880"/>
                <a:gridCol w="762120"/>
                <a:gridCol w="990360"/>
                <a:gridCol w="1371600"/>
                <a:gridCol w="685800"/>
                <a:gridCol w="990720"/>
                <a:gridCol w="762120"/>
                <a:gridCol w="1096920"/>
                <a:gridCol w="731880"/>
              </a:tblGrid>
              <a:tr h="39060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hip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eshek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Kasungu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eren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em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em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em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em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arm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Lead farm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BEOs/ CE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A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54" name="Picture 46" descr=""/>
          <p:cNvPicPr/>
          <p:nvPr/>
        </p:nvPicPr>
        <p:blipFill>
          <a:blip r:embed="rId4"/>
          <a:stretch/>
        </p:blipFill>
        <p:spPr>
          <a:xfrm>
            <a:off x="4343400" y="4581360"/>
            <a:ext cx="1676520" cy="222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5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056" name="Rectangle 7"/>
          <p:cNvSpPr/>
          <p:nvPr/>
        </p:nvSpPr>
        <p:spPr>
          <a:xfrm>
            <a:off x="-457200" y="836640"/>
            <a:ext cx="9524880" cy="32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Dry spell experienced in Western &amp; Southern provinces negatively affected aflasafe deployment in pre-selected field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74304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Poor road networks: inaccessible fallen trees/ logs and thickets prevented access to fields in the forest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74304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Birds were a problem in forest areas cropped to maize &amp; groundnut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743200" y="19224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Tahoma"/>
                <a:ea typeface="Tahoma"/>
              </a:rPr>
              <a:t>Challenges &amp; research gap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8" name="Picture 1" descr=""/>
          <p:cNvPicPr/>
          <p:nvPr/>
        </p:nvPicPr>
        <p:blipFill>
          <a:blip r:embed="rId2"/>
          <a:stretch/>
        </p:blipFill>
        <p:spPr>
          <a:xfrm>
            <a:off x="76320" y="4081320"/>
            <a:ext cx="4800600" cy="270036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2" descr=""/>
          <p:cNvPicPr/>
          <p:nvPr/>
        </p:nvPicPr>
        <p:blipFill>
          <a:blip r:embed="rId3"/>
          <a:stretch/>
        </p:blipFill>
        <p:spPr>
          <a:xfrm>
            <a:off x="6626160" y="4081320"/>
            <a:ext cx="2467080" cy="27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0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061" name="Rectangle 7"/>
          <p:cNvSpPr/>
          <p:nvPr/>
        </p:nvSpPr>
        <p:spPr>
          <a:xfrm>
            <a:off x="-457200" y="835200"/>
            <a:ext cx="9524880" cy="32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Business plan development: A new consultant to be hired to finalize business plan development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74304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Product registration: Continue with the product registration proces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74304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Data: Test aflasafe product region I &amp; III AEZ to gather 2</a:t>
            </a:r>
            <a:r>
              <a:rPr b="0" lang="en-GB" sz="23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nd</a:t>
            </a: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 year efficacy d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2743200" y="-360"/>
            <a:ext cx="6477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Tahoma"/>
                <a:ea typeface="Tahoma"/>
              </a:rPr>
              <a:t>Gaps &amp; outlook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3" name="Picture 1" descr=""/>
          <p:cNvPicPr/>
          <p:nvPr/>
        </p:nvPicPr>
        <p:blipFill>
          <a:blip r:embed="rId2"/>
          <a:stretch/>
        </p:blipFill>
        <p:spPr>
          <a:xfrm>
            <a:off x="76320" y="4402080"/>
            <a:ext cx="4228920" cy="237960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2" descr=""/>
          <p:cNvPicPr/>
          <p:nvPr/>
        </p:nvPicPr>
        <p:blipFill>
          <a:blip r:embed="rId3"/>
          <a:stretch/>
        </p:blipFill>
        <p:spPr>
          <a:xfrm>
            <a:off x="6934320" y="4417920"/>
            <a:ext cx="2158920" cy="23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5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2666880" y="45720"/>
            <a:ext cx="6477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cknowled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7" name="Picture 6" descr=""/>
          <p:cNvPicPr/>
          <p:nvPr/>
        </p:nvPicPr>
        <p:blipFill>
          <a:blip r:embed="rId2"/>
          <a:stretch/>
        </p:blipFill>
        <p:spPr>
          <a:xfrm>
            <a:off x="152280" y="5365800"/>
            <a:ext cx="2514600" cy="164448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3" descr="P1040794"/>
          <p:cNvPicPr/>
          <p:nvPr/>
        </p:nvPicPr>
        <p:blipFill>
          <a:blip r:embed="rId3"/>
          <a:stretch/>
        </p:blipFill>
        <p:spPr>
          <a:xfrm>
            <a:off x="4781520" y="914400"/>
            <a:ext cx="4406760" cy="5867280"/>
          </a:xfrm>
          <a:prstGeom prst="rect">
            <a:avLst/>
          </a:prstGeom>
          <a:ln w="0">
            <a:noFill/>
          </a:ln>
        </p:spPr>
      </p:pic>
      <p:sp>
        <p:nvSpPr>
          <p:cNvPr id="106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AutoShape 5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1" name="Picture 9" descr=""/>
          <p:cNvPicPr/>
          <p:nvPr/>
        </p:nvPicPr>
        <p:blipFill>
          <a:blip r:embed="rId4"/>
          <a:stretch/>
        </p:blipFill>
        <p:spPr>
          <a:xfrm>
            <a:off x="23240880" y="30403800"/>
            <a:ext cx="4724640" cy="165420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12" descr=""/>
          <p:cNvPicPr/>
          <p:nvPr/>
        </p:nvPicPr>
        <p:blipFill>
          <a:blip r:embed="rId5"/>
          <a:stretch/>
        </p:blipFill>
        <p:spPr>
          <a:xfrm>
            <a:off x="76320" y="2666880"/>
            <a:ext cx="2471760" cy="865440"/>
          </a:xfrm>
          <a:prstGeom prst="rect">
            <a:avLst/>
          </a:prstGeom>
          <a:ln w="0">
            <a:noFill/>
          </a:ln>
        </p:spPr>
      </p:pic>
      <p:pic>
        <p:nvPicPr>
          <p:cNvPr id="1073" name="Grafik 7" descr=""/>
          <p:cNvPicPr/>
          <p:nvPr/>
        </p:nvPicPr>
        <p:blipFill>
          <a:blip r:embed="rId6"/>
          <a:stretch/>
        </p:blipFill>
        <p:spPr>
          <a:xfrm>
            <a:off x="34920" y="3638520"/>
            <a:ext cx="2239920" cy="933480"/>
          </a:xfrm>
          <a:prstGeom prst="rect">
            <a:avLst/>
          </a:prstGeom>
          <a:ln w="0">
            <a:noFill/>
          </a:ln>
        </p:spPr>
      </p:pic>
      <p:sp>
        <p:nvSpPr>
          <p:cNvPr id="1074" name="AutoShape 14"/>
          <p:cNvSpPr/>
          <p:nvPr/>
        </p:nvSpPr>
        <p:spPr>
          <a:xfrm>
            <a:off x="155520" y="-1881360"/>
            <a:ext cx="337176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5" name="Picture 15" descr=""/>
          <p:cNvPicPr/>
          <p:nvPr/>
        </p:nvPicPr>
        <p:blipFill>
          <a:blip r:embed="rId7"/>
          <a:stretch/>
        </p:blipFill>
        <p:spPr>
          <a:xfrm>
            <a:off x="0" y="838080"/>
            <a:ext cx="1514520" cy="176400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14" descr="Macintosh HD:Users:alys.yng:Dropbox:Research:Zambia:AA GNIAA - INGENEAS:Communication Tools:Logos - INGENAES:ingenaesLogos2.png"/>
          <p:cNvPicPr/>
          <p:nvPr/>
        </p:nvPicPr>
        <p:blipFill>
          <a:blip r:embed="rId8"/>
          <a:stretch/>
        </p:blipFill>
        <p:spPr>
          <a:xfrm>
            <a:off x="2362320" y="1949400"/>
            <a:ext cx="2122200" cy="71604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6" descr="Macintosh HD:Users:alys.yng:Desktop:Screen Shot 2016-05-01 at 5.46.06 AM.png"/>
          <p:cNvPicPr/>
          <p:nvPr/>
        </p:nvPicPr>
        <p:blipFill>
          <a:blip r:embed="rId9"/>
          <a:stretch/>
        </p:blipFill>
        <p:spPr>
          <a:xfrm>
            <a:off x="2602080" y="3809880"/>
            <a:ext cx="2122200" cy="538200"/>
          </a:xfrm>
          <a:prstGeom prst="rect">
            <a:avLst/>
          </a:prstGeom>
          <a:ln w="0">
            <a:noFill/>
          </a:ln>
        </p:spPr>
      </p:pic>
      <p:sp>
        <p:nvSpPr>
          <p:cNvPr id="1078" name="Rectangle 17"/>
          <p:cNvSpPr/>
          <p:nvPr/>
        </p:nvSpPr>
        <p:spPr>
          <a:xfrm>
            <a:off x="2286000" y="4729320"/>
            <a:ext cx="23544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7f7f7f"/>
                </a:solidFill>
                <a:latin typeface="Tahoma"/>
                <a:ea typeface="Tahoma"/>
              </a:rPr>
              <a:t> </a:t>
            </a:r>
            <a:r>
              <a:rPr b="1" lang="en-GB" sz="2300" spc="-1" strike="noStrike">
                <a:solidFill>
                  <a:srgbClr val="7f7f7f"/>
                </a:solidFill>
                <a:latin typeface="Tahoma"/>
                <a:ea typeface="Tahoma"/>
              </a:rPr>
              <a:t>Aflasafe tea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9" name="Picture 15" descr=""/>
          <p:cNvPicPr/>
          <p:nvPr/>
        </p:nvPicPr>
        <p:blipFill>
          <a:blip r:embed="rId10"/>
          <a:stretch/>
        </p:blipFill>
        <p:spPr>
          <a:xfrm>
            <a:off x="34920" y="4610160"/>
            <a:ext cx="2239920" cy="79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666880" y="12240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Project 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Rectangle 9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ectangle 3"/>
          <p:cNvSpPr/>
          <p:nvPr/>
        </p:nvSpPr>
        <p:spPr>
          <a:xfrm>
            <a:off x="76320" y="1308240"/>
            <a:ext cx="8991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o conduct a trade assessment of key agricultural VCs in Zam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o assess the efficacy of two aflasafe biocontrol products in Region I and III agro-ecological zones of Zam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o develop a business plan for commercializing aflasafe in Zam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o develop a dossier &amp; identify requirements for aflasafe registration &amp; commerc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o assess the cost benefits of using afla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-380880" y="0"/>
            <a:ext cx="9601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333ff"/>
                </a:solidFill>
                <a:latin typeface="Tahoma"/>
                <a:ea typeface="Tahoma"/>
              </a:rPr>
              <a:t>Aflasafe Technology: Planned activities &amp; Partn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Straight Connector 12"/>
          <p:cNvSpPr/>
          <p:nvPr/>
        </p:nvSpPr>
        <p:spPr>
          <a:xfrm>
            <a:off x="0" y="988920"/>
            <a:ext cx="9144000" cy="18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Rectangle 1"/>
          <p:cNvSpPr/>
          <p:nvPr/>
        </p:nvSpPr>
        <p:spPr>
          <a:xfrm>
            <a:off x="12600" y="2757600"/>
            <a:ext cx="1752840" cy="219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Trade assessment +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Cost benefit analysi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Straight Connector 15"/>
          <p:cNvSpPr/>
          <p:nvPr/>
        </p:nvSpPr>
        <p:spPr>
          <a:xfrm>
            <a:off x="584280" y="1322280"/>
            <a:ext cx="8026200" cy="0"/>
          </a:xfrm>
          <a:prstGeom prst="line">
            <a:avLst/>
          </a:prstGeom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2" name="Picture 11" descr=""/>
          <p:cNvPicPr/>
          <p:nvPr/>
        </p:nvPicPr>
        <p:blipFill>
          <a:blip r:embed="rId1"/>
          <a:stretch/>
        </p:blipFill>
        <p:spPr>
          <a:xfrm>
            <a:off x="8174160" y="1297080"/>
            <a:ext cx="817560" cy="16034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1" descr=""/>
          <p:cNvPicPr/>
          <p:nvPr/>
        </p:nvPicPr>
        <p:blipFill>
          <a:blip r:embed="rId2"/>
          <a:stretch/>
        </p:blipFill>
        <p:spPr>
          <a:xfrm>
            <a:off x="4419720" y="1309680"/>
            <a:ext cx="817560" cy="16034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1" descr=""/>
          <p:cNvPicPr/>
          <p:nvPr/>
        </p:nvPicPr>
        <p:blipFill>
          <a:blip r:embed="rId3"/>
          <a:stretch/>
        </p:blipFill>
        <p:spPr>
          <a:xfrm>
            <a:off x="2535120" y="1295280"/>
            <a:ext cx="817560" cy="40658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1" descr=""/>
          <p:cNvPicPr/>
          <p:nvPr/>
        </p:nvPicPr>
        <p:blipFill>
          <a:blip r:embed="rId4"/>
          <a:stretch/>
        </p:blipFill>
        <p:spPr>
          <a:xfrm>
            <a:off x="6323040" y="1309680"/>
            <a:ext cx="817560" cy="41227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1" descr=""/>
          <p:cNvPicPr/>
          <p:nvPr/>
        </p:nvPicPr>
        <p:blipFill>
          <a:blip r:embed="rId5"/>
          <a:stretch/>
        </p:blipFill>
        <p:spPr>
          <a:xfrm>
            <a:off x="200160" y="1297080"/>
            <a:ext cx="793440" cy="1603440"/>
          </a:xfrm>
          <a:prstGeom prst="rect">
            <a:avLst/>
          </a:prstGeom>
          <a:ln w="0">
            <a:noFill/>
          </a:ln>
        </p:spPr>
      </p:pic>
      <p:sp>
        <p:nvSpPr>
          <p:cNvPr id="947" name="Rectangle 1"/>
          <p:cNvSpPr/>
          <p:nvPr/>
        </p:nvSpPr>
        <p:spPr>
          <a:xfrm>
            <a:off x="3733920" y="2760840"/>
            <a:ext cx="2179440" cy="1144800"/>
          </a:xfrm>
          <a:prstGeom prst="rect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Product value demonstr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Rectangle 1"/>
          <p:cNvSpPr/>
          <p:nvPr/>
        </p:nvSpPr>
        <p:spPr>
          <a:xfrm>
            <a:off x="1952640" y="4800600"/>
            <a:ext cx="2127240" cy="794520"/>
          </a:xfrm>
          <a:prstGeom prst="rect">
            <a:avLst/>
          </a:prstGeom>
          <a:noFill/>
          <a:ln w="38160">
            <a:solidFill>
              <a:srgbClr val="55f3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Efficacy trial in AEZs I &amp; II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Rectangle 1"/>
          <p:cNvSpPr/>
          <p:nvPr/>
        </p:nvSpPr>
        <p:spPr>
          <a:xfrm>
            <a:off x="5943600" y="5030640"/>
            <a:ext cx="1476360" cy="794520"/>
          </a:xfrm>
          <a:prstGeom prst="rect">
            <a:avLst/>
          </a:prstGeom>
          <a:noFill/>
          <a:ln w="381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Business pla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Rectangle 1"/>
          <p:cNvSpPr/>
          <p:nvPr/>
        </p:nvSpPr>
        <p:spPr>
          <a:xfrm>
            <a:off x="7281720" y="2728800"/>
            <a:ext cx="1828800" cy="794520"/>
          </a:xfrm>
          <a:prstGeom prst="rect">
            <a:avLst/>
          </a:prstGeom>
          <a:noFill/>
          <a:ln w="38160">
            <a:solidFill>
              <a:srgbClr val="fc4b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Product registr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itle 8"/>
          <p:cNvSpPr/>
          <p:nvPr/>
        </p:nvSpPr>
        <p:spPr>
          <a:xfrm>
            <a:off x="0" y="4567320"/>
            <a:ext cx="170964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Profit 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Share Africa Zamb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Title 8"/>
          <p:cNvSpPr/>
          <p:nvPr/>
        </p:nvSpPr>
        <p:spPr>
          <a:xfrm>
            <a:off x="2098800" y="5715000"/>
            <a:ext cx="1711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ZA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I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NIS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US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itle 8"/>
          <p:cNvSpPr/>
          <p:nvPr/>
        </p:nvSpPr>
        <p:spPr>
          <a:xfrm>
            <a:off x="4079880" y="3595680"/>
            <a:ext cx="17114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Profit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 </a:t>
            </a: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Share-Africa Zamb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ZARI/I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Title 8"/>
          <p:cNvSpPr/>
          <p:nvPr/>
        </p:nvSpPr>
        <p:spPr>
          <a:xfrm>
            <a:off x="6051600" y="5869080"/>
            <a:ext cx="13399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2000"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I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Title 8"/>
          <p:cNvSpPr/>
          <p:nvPr/>
        </p:nvSpPr>
        <p:spPr>
          <a:xfrm>
            <a:off x="7467480" y="3519360"/>
            <a:ext cx="1711440" cy="22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NIS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ZA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I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666880" y="12240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urrent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9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Rectangle 1"/>
          <p:cNvSpPr/>
          <p:nvPr/>
        </p:nvSpPr>
        <p:spPr>
          <a:xfrm>
            <a:off x="-76320" y="838080"/>
            <a:ext cx="95252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buClr>
                <a:srgbClr val="3333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3333ff"/>
                </a:solidFill>
                <a:latin typeface="Tahoma"/>
                <a:ea typeface="Tahoma"/>
              </a:rPr>
              <a:t>Efficacy of Aflasafe in Region I &amp; III agro-ecological zon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7f7f7f"/>
                </a:solidFill>
                <a:latin typeface="Tahoma"/>
                <a:ea typeface="Tahoma"/>
              </a:rPr>
              <a:t>(60.2 Ha treated (45 females, 57 males)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0" name=""/>
          <p:cNvGraphicFramePr/>
          <p:nvPr/>
        </p:nvGraphicFramePr>
        <p:xfrm>
          <a:off x="33480" y="1973160"/>
          <a:ext cx="9067680" cy="2889360"/>
        </p:xfrm>
        <a:graphic>
          <a:graphicData uri="http://schemas.openxmlformats.org/drawingml/2006/table">
            <a:tbl>
              <a:tblPr/>
              <a:tblGrid>
                <a:gridCol w="934920"/>
                <a:gridCol w="1471680"/>
                <a:gridCol w="1444680"/>
                <a:gridCol w="1284120"/>
                <a:gridCol w="1363680"/>
                <a:gridCol w="1390680"/>
                <a:gridCol w="1177920"/>
              </a:tblGrid>
              <a:tr h="457560">
                <a:tc rowSpan="2"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E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rowSpan="2"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vi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rowSpan="2"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Distri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grid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ize fiel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Groundnut fiel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reate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tro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reate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tro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45756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Wester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eshek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outher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Kazungu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ent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ere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gridSpan="2"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ot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</a:tr>
            </a:tbl>
          </a:graphicData>
        </a:graphic>
      </p:graphicFrame>
      <p:pic>
        <p:nvPicPr>
          <p:cNvPr id="961" name="Picture 5" descr=""/>
          <p:cNvPicPr/>
          <p:nvPr/>
        </p:nvPicPr>
        <p:blipFill>
          <a:blip r:embed="rId2"/>
          <a:stretch/>
        </p:blipFill>
        <p:spPr>
          <a:xfrm>
            <a:off x="12600" y="4981680"/>
            <a:ext cx="2730600" cy="188892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8" descr=""/>
          <p:cNvPicPr/>
          <p:nvPr/>
        </p:nvPicPr>
        <p:blipFill>
          <a:blip r:embed="rId3"/>
          <a:stretch/>
        </p:blipFill>
        <p:spPr>
          <a:xfrm>
            <a:off x="6019920" y="4924440"/>
            <a:ext cx="3124080" cy="190188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4" descr=""/>
          <p:cNvPicPr/>
          <p:nvPr/>
        </p:nvPicPr>
        <p:blipFill>
          <a:blip r:embed="rId4"/>
          <a:stretch/>
        </p:blipFill>
        <p:spPr>
          <a:xfrm>
            <a:off x="3276720" y="4959360"/>
            <a:ext cx="2271600" cy="1892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4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2666880" y="12240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urrent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Rectangle 9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Rectangle 1"/>
          <p:cNvSpPr/>
          <p:nvPr/>
        </p:nvSpPr>
        <p:spPr>
          <a:xfrm>
            <a:off x="0" y="838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ff"/>
                </a:solidFill>
                <a:latin typeface="Tahoma"/>
                <a:ea typeface="Tahoma"/>
              </a:rPr>
              <a:t>1. Results: aflasafe effica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8" name=""/>
          <p:cNvGraphicFramePr/>
          <p:nvPr/>
        </p:nvGraphicFramePr>
        <p:xfrm>
          <a:off x="152280" y="1447920"/>
          <a:ext cx="8839440" cy="5257800"/>
        </p:xfrm>
        <a:graphic>
          <a:graphicData uri="http://schemas.openxmlformats.org/drawingml/2006/table">
            <a:tbl>
              <a:tblPr/>
              <a:tblGrid>
                <a:gridCol w="1952640"/>
                <a:gridCol w="1704960"/>
                <a:gridCol w="1676520"/>
                <a:gridCol w="1676520"/>
                <a:gridCol w="1828800"/>
              </a:tblGrid>
              <a:tr h="92412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flatoxin lev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portion of maize samples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portion of groundnut samples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95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Trea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Contro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e46c0a"/>
                          </a:solidFill>
                          <a:latin typeface="Tahoma"/>
                          <a:ea typeface="Tahoma"/>
                        </a:rPr>
                        <a:t>Trea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e46c0a"/>
                          </a:solidFill>
                          <a:latin typeface="Tahoma"/>
                          <a:ea typeface="Tahoma"/>
                        </a:rPr>
                        <a:t>Contro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5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7f7f7f"/>
                          </a:solidFill>
                          <a:latin typeface="Tahoma"/>
                          <a:ea typeface="Tahoma"/>
                        </a:rPr>
                        <a:t>Range (pp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7f7f7f"/>
                          </a:solidFill>
                          <a:latin typeface="Tahoma"/>
                          <a:ea typeface="Tahoma"/>
                        </a:rPr>
                        <a:t>0-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7f7f7f"/>
                          </a:solidFill>
                          <a:latin typeface="Tahoma"/>
                          <a:ea typeface="Tahoma"/>
                        </a:rPr>
                        <a:t>0-1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7f7f7f"/>
                          </a:solidFill>
                          <a:latin typeface="Tahoma"/>
                          <a:ea typeface="Tahoma"/>
                        </a:rPr>
                        <a:t>0-2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7f7f7f"/>
                          </a:solidFill>
                          <a:latin typeface="Tahoma"/>
                          <a:ea typeface="Tahoma"/>
                        </a:rPr>
                        <a:t>0-14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195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Undetect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95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79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e46c0a"/>
                          </a:solidFill>
                          <a:latin typeface="Tahoma"/>
                          <a:ea typeface="Tahoma"/>
                        </a:rPr>
                        <a:t>44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e46c0a"/>
                          </a:solidFill>
                          <a:latin typeface="Tahoma"/>
                          <a:ea typeface="Tahoma"/>
                        </a:rPr>
                        <a:t>56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95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-4 pp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3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17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e46c0a"/>
                          </a:solidFill>
                          <a:latin typeface="Tahoma"/>
                          <a:ea typeface="Tahoma"/>
                        </a:rPr>
                        <a:t>38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e46c0a"/>
                          </a:solidFill>
                          <a:latin typeface="Tahoma"/>
                          <a:ea typeface="Tahoma"/>
                        </a:rPr>
                        <a:t>25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95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-10 pp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e46c0a"/>
                          </a:solidFill>
                          <a:latin typeface="Tahoma"/>
                          <a:ea typeface="Tahoma"/>
                        </a:rPr>
                        <a:t>2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e46c0a"/>
                          </a:solidFill>
                          <a:latin typeface="Tahoma"/>
                          <a:ea typeface="Tahoma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95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1-20 pp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e46c0a"/>
                          </a:solidFill>
                          <a:latin typeface="Tahoma"/>
                          <a:ea typeface="Tahoma"/>
                        </a:rPr>
                        <a:t>2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e46c0a"/>
                          </a:solidFill>
                          <a:latin typeface="Tahoma"/>
                          <a:ea typeface="Tahoma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95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&gt; 20 pp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e46c0a"/>
                          </a:solidFill>
                          <a:latin typeface="Tahoma"/>
                          <a:ea typeface="Tahoma"/>
                        </a:rPr>
                        <a:t>11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e46c0a"/>
                          </a:solidFill>
                          <a:latin typeface="Tahoma"/>
                          <a:ea typeface="Tahoma"/>
                        </a:rPr>
                        <a:t>18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9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2666880" y="12240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urrent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Rectangle 9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Rectangle 1"/>
          <p:cNvSpPr/>
          <p:nvPr/>
        </p:nvSpPr>
        <p:spPr>
          <a:xfrm>
            <a:off x="0" y="838080"/>
            <a:ext cx="91440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3333ff"/>
                </a:solidFill>
                <a:latin typeface="Tahoma"/>
                <a:ea typeface="Tahoma"/>
              </a:rPr>
              <a:t>2. Aflasafe product value demonstration + Cost benefit analysi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3" name=""/>
          <p:cNvGraphicFramePr/>
          <p:nvPr/>
        </p:nvGraphicFramePr>
        <p:xfrm>
          <a:off x="63360" y="1905120"/>
          <a:ext cx="9028080" cy="2797200"/>
        </p:xfrm>
        <a:graphic>
          <a:graphicData uri="http://schemas.openxmlformats.org/drawingml/2006/table">
            <a:tbl>
              <a:tblPr/>
              <a:tblGrid>
                <a:gridCol w="882720"/>
                <a:gridCol w="1536840"/>
                <a:gridCol w="1614240"/>
                <a:gridCol w="1920960"/>
                <a:gridCol w="1613160"/>
                <a:gridCol w="1460160"/>
              </a:tblGrid>
              <a:tr h="549000">
                <a:tc rowSpan="2"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E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rowSpan="2"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vi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rowSpan="2"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Distri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rowSpan="2"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Bloc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gridSpan="2"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Groundnut fiel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reate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tro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549000">
                <a:tc rowSpan="2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aster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hipa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hitandik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9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hipangal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gridSpan="2"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ota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</a:tr>
            </a:tbl>
          </a:graphicData>
        </a:graphic>
      </p:graphicFrame>
      <p:pic>
        <p:nvPicPr>
          <p:cNvPr id="974" name="Picture 8" descr=""/>
          <p:cNvPicPr/>
          <p:nvPr/>
        </p:nvPicPr>
        <p:blipFill>
          <a:blip r:embed="rId2"/>
          <a:stretch/>
        </p:blipFill>
        <p:spPr>
          <a:xfrm>
            <a:off x="3368520" y="4829040"/>
            <a:ext cx="1508400" cy="200340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6" descr=""/>
          <p:cNvPicPr/>
          <p:nvPr/>
        </p:nvPicPr>
        <p:blipFill>
          <a:blip r:embed="rId3"/>
          <a:stretch/>
        </p:blipFill>
        <p:spPr>
          <a:xfrm>
            <a:off x="76320" y="4829040"/>
            <a:ext cx="2373120" cy="201312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C:\Users\mwale\Pictures\2016-04-28\013.jpg"/>
          <p:cNvPicPr/>
          <p:nvPr/>
        </p:nvPicPr>
        <p:blipFill>
          <a:blip r:embed="rId4"/>
          <a:stretch/>
        </p:blipFill>
        <p:spPr>
          <a:xfrm>
            <a:off x="5521320" y="4800600"/>
            <a:ext cx="3614760" cy="2075040"/>
          </a:xfrm>
          <a:prstGeom prst="rect">
            <a:avLst/>
          </a:prstGeom>
          <a:ln w="9360">
            <a:solidFill>
              <a:srgbClr val="d9d9d9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2666880" y="12240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urrent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Rectangle 9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Rectangle 1"/>
          <p:cNvSpPr/>
          <p:nvPr/>
        </p:nvSpPr>
        <p:spPr>
          <a:xfrm>
            <a:off x="0" y="838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ff"/>
                </a:solidFill>
                <a:latin typeface="Tahoma"/>
                <a:ea typeface="Tahoma"/>
              </a:rPr>
              <a:t>2. Resul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1" name=""/>
          <p:cNvGraphicFramePr/>
          <p:nvPr/>
        </p:nvGraphicFramePr>
        <p:xfrm>
          <a:off x="152280" y="1487520"/>
          <a:ext cx="8915400" cy="3419280"/>
        </p:xfrm>
        <a:graphic>
          <a:graphicData uri="http://schemas.openxmlformats.org/drawingml/2006/table">
            <a:tbl>
              <a:tblPr/>
              <a:tblGrid>
                <a:gridCol w="2362320"/>
                <a:gridCol w="2971800"/>
                <a:gridCol w="3581280"/>
              </a:tblGrid>
              <a:tr h="6195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flatoxin lev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portion of treated groundnut samp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portion of untreated groundnut samp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c00000"/>
                          </a:solidFill>
                          <a:latin typeface="Tahoma"/>
                          <a:ea typeface="Tahoma"/>
                        </a:rPr>
                        <a:t>Range (pp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c00000"/>
                          </a:solidFill>
                          <a:latin typeface="Tahoma"/>
                          <a:ea typeface="Tahoma"/>
                        </a:rPr>
                        <a:t>0-3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c00000"/>
                          </a:solidFill>
                          <a:latin typeface="Tahoma"/>
                          <a:ea typeface="Tahoma"/>
                        </a:rPr>
                        <a:t>0-11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Undetect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5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9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-4 pp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3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3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-10 pp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1-20 pp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&gt; 20 pp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6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2" name="Rectangle 4"/>
          <p:cNvSpPr/>
          <p:nvPr/>
        </p:nvSpPr>
        <p:spPr>
          <a:xfrm>
            <a:off x="0" y="5083200"/>
            <a:ext cx="914400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ff"/>
                </a:solidFill>
                <a:latin typeface="Tahoma"/>
                <a:ea typeface="Tahoma"/>
              </a:rPr>
              <a:t>Aflatoxin analysis: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ongo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ff"/>
                </a:solidFill>
                <a:latin typeface="Tahoma"/>
                <a:ea typeface="Tahoma"/>
              </a:rPr>
              <a:t>Cost benefit analysis: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Profit+ &amp; Share Africa Zambia  undertaking the assess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2666880" y="12240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urrent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Rectangle 9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1"/>
          <p:cNvSpPr/>
          <p:nvPr/>
        </p:nvSpPr>
        <p:spPr>
          <a:xfrm>
            <a:off x="0" y="838080"/>
            <a:ext cx="91440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3333ff"/>
                </a:solidFill>
                <a:latin typeface="Tahoma"/>
                <a:ea typeface="Tahoma"/>
              </a:rPr>
              <a:t>3. Aflasafe product registr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7" name="Picture 9" descr=""/>
          <p:cNvPicPr/>
          <p:nvPr/>
        </p:nvPicPr>
        <p:blipFill>
          <a:blip r:embed="rId2"/>
          <a:stretch/>
        </p:blipFill>
        <p:spPr>
          <a:xfrm>
            <a:off x="76320" y="4172040"/>
            <a:ext cx="4640040" cy="260964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10" descr=""/>
          <p:cNvPicPr/>
          <p:nvPr/>
        </p:nvPicPr>
        <p:blipFill>
          <a:blip r:embed="rId3"/>
          <a:stretch/>
        </p:blipFill>
        <p:spPr>
          <a:xfrm>
            <a:off x="4888080" y="990720"/>
            <a:ext cx="4206600" cy="4114800"/>
          </a:xfrm>
          <a:prstGeom prst="rect">
            <a:avLst/>
          </a:prstGeom>
          <a:ln w="0">
            <a:noFill/>
          </a:ln>
        </p:spPr>
      </p:pic>
      <p:sp>
        <p:nvSpPr>
          <p:cNvPr id="989" name="Rectangle 15"/>
          <p:cNvSpPr/>
          <p:nvPr/>
        </p:nvSpPr>
        <p:spPr>
          <a:xfrm>
            <a:off x="47520" y="1600200"/>
            <a:ext cx="469584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ZEMA Engagement: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Field evaluation of aflasaf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0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2666880" y="12240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urrent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Rectangle 9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1"/>
          <p:cNvSpPr/>
          <p:nvPr/>
        </p:nvSpPr>
        <p:spPr>
          <a:xfrm>
            <a:off x="0" y="838080"/>
            <a:ext cx="91440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3333ff"/>
                </a:solidFill>
                <a:latin typeface="Tahoma"/>
                <a:ea typeface="Tahoma"/>
              </a:rPr>
              <a:t>3. Aflasafe product registration: Requirements identifi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4" name="Group 14"/>
          <p:cNvGrpSpPr/>
          <p:nvPr/>
        </p:nvGrpSpPr>
        <p:grpSpPr>
          <a:xfrm>
            <a:off x="52560" y="4239720"/>
            <a:ext cx="3276360" cy="2598120"/>
            <a:chOff x="52560" y="4239720"/>
            <a:chExt cx="3276360" cy="2598120"/>
          </a:xfrm>
        </p:grpSpPr>
        <p:pic>
          <p:nvPicPr>
            <p:cNvPr id="995" name="Picture 3" descr=""/>
            <p:cNvPicPr/>
            <p:nvPr/>
          </p:nvPicPr>
          <p:blipFill>
            <a:blip r:embed="rId2"/>
            <a:stretch/>
          </p:blipFill>
          <p:spPr>
            <a:xfrm>
              <a:off x="2562840" y="6115680"/>
              <a:ext cx="761760" cy="72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6" name="Rectangle 5"/>
            <p:cNvSpPr/>
            <p:nvPr/>
          </p:nvSpPr>
          <p:spPr>
            <a:xfrm>
              <a:off x="52560" y="4239720"/>
              <a:ext cx="3276360" cy="255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TIONAL INSTITUTE FOR SCIENTIFIC AND INDUSTRIAL RESEAR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VISIONAL ECOTOXICOGY DOSSIER FOR AFLASAFE ZM01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D AFLASAFE ZM0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epared b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nry Njapa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rch 201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7" name="Rectangle 12"/>
          <p:cNvSpPr/>
          <p:nvPr/>
        </p:nvSpPr>
        <p:spPr>
          <a:xfrm>
            <a:off x="3886200" y="1471680"/>
            <a:ext cx="5181480" cy="3751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Efficacy (min 2 seasons; 2 trials /crop; all AE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Certificate of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Ori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Product 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Physical and chemical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Mode of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Certificate of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13"/>
          <p:cNvSpPr/>
          <p:nvPr/>
        </p:nvSpPr>
        <p:spPr>
          <a:xfrm>
            <a:off x="0" y="1371600"/>
            <a:ext cx="3376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Form VIII (Main application for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Form X (Label contents application for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Produc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A draft la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Rectangle 20"/>
          <p:cNvSpPr/>
          <p:nvPr/>
        </p:nvSpPr>
        <p:spPr>
          <a:xfrm>
            <a:off x="3746520" y="5229360"/>
            <a:ext cx="56260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 startAt="5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Certificate of registration from country of ori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 startAt="5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Safety data sh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 startAt="5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Consent letter from manufactu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 startAt="5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Ecotoxicology Doss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Striped Right Arrow 22"/>
          <p:cNvSpPr/>
          <p:nvPr/>
        </p:nvSpPr>
        <p:spPr>
          <a:xfrm>
            <a:off x="2666880" y="3200400"/>
            <a:ext cx="1143000" cy="241200"/>
          </a:xfrm>
          <a:custGeom>
            <a:avLst/>
            <a:gdLst/>
            <a:ahLst/>
            <a:rect l="l" t="t" r="r" b="b"/>
            <a:pathLst>
              <a:path w="1143000" h="241300">
                <a:moveTo>
                  <a:pt x="0" y="60325"/>
                </a:moveTo>
                <a:lnTo>
                  <a:pt x="7541" y="60325"/>
                </a:lnTo>
                <a:lnTo>
                  <a:pt x="7541" y="180975"/>
                </a:lnTo>
                <a:lnTo>
                  <a:pt x="0" y="180975"/>
                </a:lnTo>
                <a:lnTo>
                  <a:pt x="0" y="60325"/>
                </a:lnTo>
                <a:close/>
                <a:moveTo>
                  <a:pt x="15081" y="60325"/>
                </a:moveTo>
                <a:lnTo>
                  <a:pt x="30163" y="60325"/>
                </a:lnTo>
                <a:lnTo>
                  <a:pt x="30163" y="180975"/>
                </a:lnTo>
                <a:lnTo>
                  <a:pt x="15081" y="180975"/>
                </a:lnTo>
                <a:lnTo>
                  <a:pt x="15081" y="60325"/>
                </a:lnTo>
                <a:close/>
                <a:moveTo>
                  <a:pt x="37703" y="60325"/>
                </a:moveTo>
                <a:lnTo>
                  <a:pt x="1022350" y="60325"/>
                </a:lnTo>
                <a:lnTo>
                  <a:pt x="1022350" y="0"/>
                </a:lnTo>
                <a:lnTo>
                  <a:pt x="1143000" y="120650"/>
                </a:lnTo>
                <a:lnTo>
                  <a:pt x="1022350" y="241300"/>
                </a:lnTo>
                <a:lnTo>
                  <a:pt x="1022350" y="180975"/>
                </a:lnTo>
                <a:lnTo>
                  <a:pt x="37703" y="180975"/>
                </a:lnTo>
                <a:lnTo>
                  <a:pt x="37703" y="60325"/>
                </a:lnTo>
                <a:close/>
              </a:path>
            </a:pathLst>
          </a:custGeom>
          <a:solidFill>
            <a:srgbClr val="7f7f7f"/>
          </a:solidFill>
          <a:ln w="25560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3T18:38:10Z</dcterms:created>
  <dc:creator>CRaphael</dc:creator>
  <dc:description/>
  <dc:language>en-US</dc:language>
  <cp:lastModifiedBy>Odhong, Jonathan (IITA)</cp:lastModifiedBy>
  <dcterms:modified xsi:type="dcterms:W3CDTF">2016-09-14T08:33:21Z</dcterms:modified>
  <cp:revision>687</cp:revision>
  <dc:subject/>
  <dc:title>Slide 1</dc:title>
</cp:coreProperties>
</file>